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C1279-1B6B-473E-B01A-95D0296F5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40C9-0942-4DB3-9E75-0C1E8087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E463-CDAE-4E32-A5A9-F84E8E1AF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B5AD-83E8-409E-A00F-DCFD8B3A2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549-6AF1-4CC6-AB2B-7684A624E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522B-A644-4D80-A481-65FFF2C29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9DFF-0530-47A1-8915-D8298AA78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C60C-B8D2-46EF-818D-22D04BF7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550B-B7BD-4B4C-BA97-424DFF6E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35B-F08D-4B48-B29C-332C0255A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6EDB-5A30-4DF7-871F-8B2F1DB7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5D1E9-E673-46B2-9F54-7C51DEF22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9DF7-FBB5-42D3-8393-76B2DAF223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vernance in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 and capable leader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 make the right decisions for the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 must have moral courage and integ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 do what is right and not what is popu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hip and governance do not occur by ch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eaders are selected and groom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also selected based on good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nesty is highly valued in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s must be incorru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orruptible leaders win the confidence and respect of the peo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aw deals with leaders guilty of dishonest behavio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leadership needed in every segment of Singapore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xample, former chairman of the National Arts Council (NAC) Mr. Liu Thai K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d more opportunities for local tal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rts events were organ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government to be forward loo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self-sufficiency in water supp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ntly, Singapore depends on Mala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reements with M’sia end in 2011 and 20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found alternative water supp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communicated that NEWater was sa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ated Re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urism has always been important for S’pore’s econom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ntly, Tourism faces more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Asian countries developing tourist at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needs to improve the tourist indu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pril 2005, the government decided to build two Integrated Res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king Ris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has to be open to new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needs to be willing to take ris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s can come up with creative and innovative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 Singaporean needs to upgrade knowledge and skills to stay employ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3 Reward for Work and Work for Rewar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ocracy is key to this princi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ocracy is a system which rewards hard work and t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ard encourages people to do w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Exceptional students are reward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itocracy given an equal opportunity to all to achieve their b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rplus from Singapore’s growth has also been shared as a reward for hard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4 A Stake for Everyone, Opportunities for A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greater sense of belonging is created when people have a say in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opportunities have been created to involve people in decision-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Consultation with the people on having a casi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 Licens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70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ngapore experienced rapid grow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ffic volume was especially high during peak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made plans to manage traffic before it became too seri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Governance in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sures stability in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s a 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t’s people’s n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ains sovereign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 Licens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a Licensing Scheme (ALS)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had to pay for use of certain roa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ads bounded within areas designated as Restricted Z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ntries set up to monitor motori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 Licensing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support ALS, other measure introduc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ing bus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st of parking city ar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ing park-and-ride fac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LS started, motorists were unhap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 ALS reduced the number of 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all, ALS was successful in ensuring smooth traffic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lectronic Road Pri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 successful but room for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roved technology = more efficient ways of monitoring and regul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enabled transport system to stay relev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nvenient &amp; labour-intensive ALS replaced by Electronic Road Pricing (ER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P more efficient and effe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-and-Rid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roduced at same time as 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park vehicles at specific car parks outside the C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would use public transport from the car p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vehicles in the C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-and-Rid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emed like a good idea but not success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went wro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orists switched to public transport or drove in before 7.30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worthwhile for motorists to leave cars parked outside city all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ark-and-Ride Sc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ious overs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llions of dollars inve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allocated for car park not 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uttle bus companies set up for this scheme not able to surv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cheme still used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s of people change and what did not work in the past may work to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hicle Quota System (VQ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p increase in car ownership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gent need to control car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nd Transport Authority (LTA) determined the number of new vehicles allowed for 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the ways to administer VQS was through the Certificate of Entitlement (COE)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.1 Measures to control the flow of Traff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hicle Quota System (VQ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 number of new cars are issued based on a quota by 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 buyers must bid for COE before purchase of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TA sets the quota for the month and quota premium based on bid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ful bidders will pay for the CO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entitles vehicle ownership for 10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E must be renewed after 10 years if owner still wants to use the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ining birth rate from the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1980, fertility rate hit 1.82 children per woman (replacement level is 2.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 planning policy to reduce birth rate work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factors affecting birth rate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costs of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marrying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lining birth rate from the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jobs created in industries and larger workforce nee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power also needed for national de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babies born was below replacement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re-examine the population policy because of potential problems of a small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f Gover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ative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ections held once every 5 ye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vote for their candi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didates with the most votes serves as a Member of Parliament (M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der of the party with the most MPs is invited to be Prime Mini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 Minister forms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ttractive to Multinational compan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a small population, Singapore not able to produce enough tal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lented people needed to susta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national corporations (MNCs) would find it difficult and expensive to recruit Singaporeans compared to Chi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would also be less attractive because of smaller consumer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2 Why was there a need to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geing Pop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wer babies means fewer young peo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ber of older people becomes proportionately lar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y will face an ageing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resources would have to used to take care of senior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raduate Mothers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M Lee felt that female graduates should have more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uate Mothers Scheme introduced in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 sparked debate and unhapp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-educated were unhappy as they felt negl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government policies win the support of the peo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e was withdrawn on year l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ree or more if you can afford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 made to population policy in 198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med to bring replacement level to 2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ents encouraged to have three or more children if they could affor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 adopted a cautious approach because of recession in 19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oo many babies were born, serious problems might arise if families could not cope financ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ree or more if you can affor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relieve financial burden, government introduced certain measures such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owing use of Medisave to pay for delivery 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 some people felt the assistance wasn’t enoug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s had limited suc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pite publicity campaigns, many married couples continued to have only one or two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Singaporeans still married later or remain unmar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ther pro-family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alised medical benef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ndparent caregiver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-day work week for Civil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maternity le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acting foreig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to enhance competitive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ign Talent (FT) helps boost quality of man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T helps create more jobs and boost crea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relaxed immigration policy in 19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ier entry, subsidised housing and attractive education package offered to 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3 How did the government promote population growth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tracting foreign tal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hoped that more FTs would take up permanent residence or citizen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more FTs, Singapore has become more cosmopoli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nationalities living in Singapore have enriched Singapore’s cul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1 How will an ageing population impact Singapor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2133720"/>
            <a:ext cx="3276720" cy="642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nd for more healthcare and socia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743200" y="3581280"/>
            <a:ext cx="365760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eing of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334120"/>
            <a:ext cx="3276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tion in competitive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5334120"/>
            <a:ext cx="32004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ain on working pop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86400" y="2362320"/>
            <a:ext cx="327672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aller security 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7" idx="1"/>
            <a:endCxn id="116" idx="2"/>
          </p:cNvCxnSpPr>
          <p:nvPr/>
        </p:nvCxnSpPr>
        <p:spPr>
          <a:xfrm rot="10800000">
            <a:off x="2018520" y="2786760"/>
            <a:ext cx="724680" cy="106128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17" idx="1"/>
            <a:endCxn id="118" idx="0"/>
          </p:cNvCxnSpPr>
          <p:nvPr/>
        </p:nvCxnSpPr>
        <p:spPr>
          <a:xfrm flipV="1" rot="10800000">
            <a:off x="2094840" y="3847680"/>
            <a:ext cx="648360" cy="1486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7" idx="3"/>
            <a:endCxn id="120" idx="2"/>
          </p:cNvCxnSpPr>
          <p:nvPr/>
        </p:nvCxnSpPr>
        <p:spPr>
          <a:xfrm flipV="1">
            <a:off x="6400440" y="2741040"/>
            <a:ext cx="724680" cy="1107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7" idx="3"/>
            <a:endCxn id="119" idx="0"/>
          </p:cNvCxnSpPr>
          <p:nvPr/>
        </p:nvCxnSpPr>
        <p:spPr>
          <a:xfrm>
            <a:off x="6400800" y="3848040"/>
            <a:ext cx="838800" cy="1486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nior citizens as assets to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2030, 19% of Singaporeans will be over 65 years o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 to ensure that seniors citizens remain contributing members of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ior citizens have valuable skills, knowledge, talent and wor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can add value to public and private organisations and boost family lif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How does the Governmen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isl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MPs and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a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President and Cabi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s laws made by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ministers government poli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y Helping Hands’ Appro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one has a part to play in helping prepare for an ageing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ro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ment govt’s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of responsibility reduces govt’s burd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 can rely less on increasing taxes to care for eld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shared responsibility, resources are saved to meet other needs of the 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ividua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ensures that he ages gracefully through lifelong pl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ing a healthy lifestyle by watching diet and exercising regula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financially prepared for life in old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ending talks and reading relevant materials to plan for retir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amil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ong, stable families bring social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y is main source of emotional, social and financial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t introduced measures to strengthen family b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ior Citizens’ Week held annually in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courages elderly to stay 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positive attitude towards age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dparents’ Day also held in N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ng families together to show appreciation for elde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can give social and emotional support and provide healthcare and social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provides subsidies to voluntary welfare organisations who help senior citiz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Home Nursing Foundation for El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organisations involve members of the community to help look after needs of eld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munity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He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community organisations also offer free health checks and organise recreational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s and activities help senior citizens remain physically, mentally and socially ac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7.2 Meeting the challenges of an ageing popu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Governmen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ibunal for the Maintenance of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x Reli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Provident Fund (CP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Housing Sche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 How does the Government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d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sists of various judges and law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that laws are justly carried o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s laws passed do not breach the Constit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1 The Legisla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of Law-ma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Reading: Propos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Reading: Reasons for the Bi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Reading: Bill is passed by Parlia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mission to Presidential Council for Minority Righ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 is sent to the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idential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2 The Execu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edback process to Execu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gives feedb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P raises the issue to respective Mini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stry justifies actions or proposes altern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3 The Judici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sition of the Jud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ef Jus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dges in law cou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ties of the Judici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judgements independ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influenced by political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 Guiding Principles of Governa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1 Leadership is 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2 Anticipate Change and Stay Relev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3 Reward for Work and Work for Re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4 A Stake for Everyone, Opportunities for 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09:18:02Z</dcterms:created>
  <dc:creator>moe</dc:creator>
  <dc:description/>
  <dc:language>en-US</dc:language>
  <cp:lastModifiedBy>moe</cp:lastModifiedBy>
  <dcterms:modified xsi:type="dcterms:W3CDTF">2009-06-07T08:48:19Z</dcterms:modified>
  <cp:revision>18</cp:revision>
  <dc:subject/>
  <dc:title>Governance in Singapore</dc:title>
</cp:coreProperties>
</file>